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386D-7FDF-4EAA-88F1-9861740FB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1B5-5B85-4D98-AE29-C2A0ED81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068D-6A6B-48F4-9F15-6C854FEE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213-BC8F-4273-AF26-2014B8D611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173D5-289F-4F10-8CE1-B9A0E74A65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13D1-82D6-4A4E-ACF2-97280204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2D-5F5B-450B-ACEE-6626338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8D2-583A-44F1-8DF8-1D534BB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1E3-4CFA-4A2D-83FC-26ADFAD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1FD-A2F4-47C8-8277-805B0EF5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353-C1AB-4870-B74A-3DFBA18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372-8987-43CF-B6C6-A15E35D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2CB-0E03-4281-9B84-C6D7FD7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CDC-8040-4A8C-B96C-7033000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1C2-1C6D-4DC3-85DD-46C33703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47A-1576-44AA-B318-F62070FC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EC4-0E00-4466-89C4-08D64F7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18B-6DE1-4833-BBDD-71B6A2E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F33-A91D-482E-B817-7C0F3F03B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4"/>
          <a:stretch/>
        </p:blipFill>
        <p:spPr>
          <a:xfrm>
            <a:off x="1822320" y="2090880"/>
            <a:ext cx="5834160" cy="383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3205080" y="906480"/>
            <a:ext cx="43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Calibri"/>
                <a:ea typeface="黑体"/>
              </a:rPr>
              <a:t>大自然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1752480" y="685800"/>
            <a:ext cx="1281240" cy="129528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3"/>
          <p:cNvSpPr/>
          <p:nvPr/>
        </p:nvSpPr>
        <p:spPr>
          <a:xfrm>
            <a:off x="1899360" y="817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2"/>
          <p:cNvSpPr/>
          <p:nvPr/>
        </p:nvSpPr>
        <p:spPr>
          <a:xfrm>
            <a:off x="1019160" y="167652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总是坐在家里的人，永远不会懂得大自然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反面强调了只有走进大自然，仔细观察，深入思考、善于请教，才能读懂大自然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6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7" name="内容占位符 2"/>
          <p:cNvSpPr/>
          <p:nvPr/>
        </p:nvSpPr>
        <p:spPr>
          <a:xfrm>
            <a:off x="1057320" y="1176480"/>
            <a:ext cx="747720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1" descr="花盆.png"/>
          <p:cNvPicPr/>
          <p:nvPr/>
        </p:nvPicPr>
        <p:blipFill>
          <a:blip r:embed="rId6"/>
          <a:stretch/>
        </p:blipFill>
        <p:spPr>
          <a:xfrm>
            <a:off x="762120" y="1306440"/>
            <a:ext cx="323640" cy="3700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1" descr="花盆.png"/>
          <p:cNvPicPr/>
          <p:nvPr/>
        </p:nvPicPr>
        <p:blipFill>
          <a:blip r:embed="rId7"/>
          <a:stretch/>
        </p:blipFill>
        <p:spPr>
          <a:xfrm>
            <a:off x="762120" y="3282840"/>
            <a:ext cx="323640" cy="3700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039680" y="3189240"/>
            <a:ext cx="221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1066680" y="1668600"/>
            <a:ext cx="7162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怎样才能学会认识大自然的文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0000"/>
                </a:solidFill>
                <a:latin typeface="宋体"/>
              </a:rPr>
              <a:t>要走进自然、仔细观察、深入思考、查阅书籍、善于请教，才能认识并读懂大自然的文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914400" y="3741840"/>
            <a:ext cx="7535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sz="2200" spc="-1" strike="noStrike">
                <a:solidFill>
                  <a:srgbClr val="000000"/>
                </a:solidFill>
                <a:latin typeface="宋体"/>
              </a:rPr>
              <a:t>课文分别写了哪几种大自然的文字？从中获得了哪些信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Courier New"/>
              </a:rPr>
              <a:t>课文分别写了星星、云朵、石灰石、花岗石这四种大自然的文字。从中获得的信息：通过星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Times New Roman"/>
              </a:rPr>
              <a:t>星可以辨别方向，通过云朵可以观察气象，通过石灰石和花岗石可以了解地质变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79" name="内容占位符 2"/>
          <p:cNvSpPr/>
          <p:nvPr/>
        </p:nvSpPr>
        <p:spPr>
          <a:xfrm>
            <a:off x="784080" y="160020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大自然的文字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自然的文字无处不在，正所谓“大自然不是缺少文字，而是缺少发现和阅读文字的眼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大自然的文字是指什么？认识大自然的文字有什么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大自然的文字就是指星星、云、鸟、石等事物，它能帮助人们辨别方向、了解历史、捕捉信息、增长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7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 19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8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图片 2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26"/>
          <p:cNvSpPr/>
          <p:nvPr/>
        </p:nvSpPr>
        <p:spPr>
          <a:xfrm>
            <a:off x="1076040" y="16286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自然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"/>
          <p:cNvSpPr/>
          <p:nvPr/>
        </p:nvSpPr>
        <p:spPr>
          <a:xfrm>
            <a:off x="1913040" y="14875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起：大自然也有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左大括号 2"/>
          <p:cNvSpPr/>
          <p:nvPr/>
        </p:nvSpPr>
        <p:spPr>
          <a:xfrm>
            <a:off x="1766880" y="1730520"/>
            <a:ext cx="184320" cy="3660480"/>
          </a:xfrm>
          <a:custGeom>
            <a:avLst/>
            <a:gdLst>
              <a:gd name="textAreaLeft" fmla="*/ 117720 w 184320"/>
              <a:gd name="textAreaRight" fmla="*/ 184680 w 184320"/>
              <a:gd name="textAreaTop" fmla="*/ 4680 h 3660480"/>
              <a:gd name="textAreaBottom" fmla="*/ 3655800 h 36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1"/>
                </a:cubicBezTo>
                <a:lnTo>
                  <a:pt x="10800" y="10709"/>
                </a:lnTo>
                <a:cubicBezTo>
                  <a:pt x="10800" y="10755"/>
                  <a:pt x="5400" y="10800"/>
                  <a:pt x="0" y="10800"/>
                </a:cubicBezTo>
                <a:cubicBezTo>
                  <a:pt x="5400" y="10800"/>
                  <a:pt x="10800" y="10846"/>
                  <a:pt x="10800" y="10891"/>
                </a:cubicBezTo>
                <a:lnTo>
                  <a:pt x="10800" y="21509"/>
                </a:lnTo>
                <a:cubicBezTo>
                  <a:pt x="10800" y="215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2033280" y="3263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左大括号 25"/>
          <p:cNvSpPr/>
          <p:nvPr/>
        </p:nvSpPr>
        <p:spPr>
          <a:xfrm>
            <a:off x="3505320" y="2438280"/>
            <a:ext cx="75960" cy="938160"/>
          </a:xfrm>
          <a:custGeom>
            <a:avLst/>
            <a:gdLst>
              <a:gd name="textAreaLeft" fmla="*/ 48600 w 75960"/>
              <a:gd name="textAreaRight" fmla="*/ 76320 w 75960"/>
              <a:gd name="textAreaTop" fmla="*/ 1080 h 938160"/>
              <a:gd name="textAreaBottom" fmla="*/ 93708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5400" y="10800"/>
                  <a:pt x="0" y="10800"/>
                </a:cubicBezTo>
                <a:cubicBezTo>
                  <a:pt x="54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9"/>
          <p:cNvSpPr/>
          <p:nvPr/>
        </p:nvSpPr>
        <p:spPr>
          <a:xfrm>
            <a:off x="2871360" y="25146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9"/>
          <p:cNvSpPr/>
          <p:nvPr/>
        </p:nvSpPr>
        <p:spPr>
          <a:xfrm>
            <a:off x="3950280" y="213372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星星：辨别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9"/>
          <p:cNvSpPr/>
          <p:nvPr/>
        </p:nvSpPr>
        <p:spPr>
          <a:xfrm>
            <a:off x="3505320" y="293544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朵：观察气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1857240" y="5040360"/>
            <a:ext cx="55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结：注意观察、查阅资料、请教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左大括号 7"/>
          <p:cNvSpPr/>
          <p:nvPr/>
        </p:nvSpPr>
        <p:spPr>
          <a:xfrm>
            <a:off x="3505320" y="3773520"/>
            <a:ext cx="75960" cy="933480"/>
          </a:xfrm>
          <a:custGeom>
            <a:avLst/>
            <a:gdLst>
              <a:gd name="textAreaLeft" fmla="*/ 48600 w 75960"/>
              <a:gd name="textAreaRight" fmla="*/ 76320 w 75960"/>
              <a:gd name="textAreaTop" fmla="*/ 1080 h 933480"/>
              <a:gd name="textAreaBottom" fmla="*/ 93240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"/>
                  <a:pt x="10800" y="90"/>
                </a:cubicBezTo>
                <a:lnTo>
                  <a:pt x="10800" y="10718"/>
                </a:lnTo>
                <a:cubicBezTo>
                  <a:pt x="10800" y="10763"/>
                  <a:pt x="5400" y="10808"/>
                  <a:pt x="0" y="10808"/>
                </a:cubicBezTo>
                <a:cubicBezTo>
                  <a:pt x="5400" y="10808"/>
                  <a:pt x="10800" y="10853"/>
                  <a:pt x="10800" y="10898"/>
                </a:cubicBezTo>
                <a:lnTo>
                  <a:pt x="10800" y="21510"/>
                </a:lnTo>
                <a:cubicBezTo>
                  <a:pt x="10800" y="2155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9"/>
          <p:cNvSpPr/>
          <p:nvPr/>
        </p:nvSpPr>
        <p:spPr>
          <a:xfrm>
            <a:off x="2743200" y="3849840"/>
            <a:ext cx="8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脚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9"/>
          <p:cNvSpPr/>
          <p:nvPr/>
        </p:nvSpPr>
        <p:spPr>
          <a:xfrm>
            <a:off x="3505320" y="3554280"/>
            <a:ext cx="35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石灰石：地质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3505320" y="4267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岗石：地质变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左大括号 32"/>
          <p:cNvSpPr/>
          <p:nvPr/>
        </p:nvSpPr>
        <p:spPr>
          <a:xfrm>
            <a:off x="2666880" y="2901960"/>
            <a:ext cx="76320" cy="1270080"/>
          </a:xfrm>
          <a:custGeom>
            <a:avLst/>
            <a:gdLst>
              <a:gd name="textAreaLeft" fmla="*/ 48960 w 76320"/>
              <a:gd name="textAreaRight" fmla="*/ 76320 w 76320"/>
              <a:gd name="textAreaTop" fmla="*/ 1080 h 1270080"/>
              <a:gd name="textAreaBottom" fmla="*/ 126900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"/>
                  <a:pt x="10800" y="66"/>
                </a:cubicBezTo>
                <a:lnTo>
                  <a:pt x="10800" y="10734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3"/>
                  <a:pt x="10800" y="10866"/>
                </a:cubicBezTo>
                <a:lnTo>
                  <a:pt x="10800" y="21534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右大括号 1"/>
          <p:cNvSpPr/>
          <p:nvPr/>
        </p:nvSpPr>
        <p:spPr>
          <a:xfrm>
            <a:off x="7188120" y="1600200"/>
            <a:ext cx="127080" cy="3672000"/>
          </a:xfrm>
          <a:custGeom>
            <a:avLst/>
            <a:gdLst>
              <a:gd name="textAreaLeft" fmla="*/ 0 w 127080"/>
              <a:gd name="textAreaRight" fmla="*/ 45720 w 127080"/>
              <a:gd name="textAreaTop" fmla="*/ 3240 h 3672000"/>
              <a:gd name="textAreaBottom" fmla="*/ 366876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"/>
                  <a:pt x="10800" y="62"/>
                </a:cubicBezTo>
                <a:lnTo>
                  <a:pt x="10800" y="10738"/>
                </a:lnTo>
                <a:cubicBezTo>
                  <a:pt x="10800" y="10769"/>
                  <a:pt x="16200" y="10800"/>
                  <a:pt x="21600" y="10800"/>
                </a:cubicBezTo>
                <a:cubicBezTo>
                  <a:pt x="16200" y="10800"/>
                  <a:pt x="10800" y="10831"/>
                  <a:pt x="10800" y="10862"/>
                </a:cubicBezTo>
                <a:lnTo>
                  <a:pt x="10800" y="21538"/>
                </a:lnTo>
                <a:cubicBezTo>
                  <a:pt x="10800" y="2156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6"/>
          <p:cNvSpPr/>
          <p:nvPr/>
        </p:nvSpPr>
        <p:spPr>
          <a:xfrm>
            <a:off x="7302960" y="2332440"/>
            <a:ext cx="14601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认真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仔细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走进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" descr=""/>
          <p:cNvPicPr/>
          <p:nvPr/>
        </p:nvPicPr>
        <p:blipFill>
          <a:blip r:embed="rId2"/>
          <a:stretch/>
        </p:blipFill>
        <p:spPr>
          <a:xfrm>
            <a:off x="633240" y="1298520"/>
            <a:ext cx="8083800" cy="4492800"/>
          </a:xfrm>
          <a:prstGeom prst="rect">
            <a:avLst/>
          </a:prstGeom>
          <a:ln w="0">
            <a:noFill/>
          </a:ln>
        </p:spPr>
      </p:pic>
      <p:sp>
        <p:nvSpPr>
          <p:cNvPr id="205" name="内容占位符 2"/>
          <p:cNvSpPr/>
          <p:nvPr/>
        </p:nvSpPr>
        <p:spPr>
          <a:xfrm>
            <a:off x="762120" y="2629080"/>
            <a:ext cx="7843680" cy="20350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6350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介绍大自然的文字以及辨识这些文字的意义，启发我们从小学会认识大自然，激发我们热爱大自然的情感和探索大自然奥秘的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207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08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图片 22" descr="热气球.png"/>
          <p:cNvPicPr/>
          <p:nvPr/>
        </p:nvPicPr>
        <p:blipFill>
          <a:blip r:embed="rId6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5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1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20" name="圆角矩形 12"/>
          <p:cNvSpPr/>
          <p:nvPr/>
        </p:nvSpPr>
        <p:spPr>
          <a:xfrm>
            <a:off x="1195560" y="1219320"/>
            <a:ext cx="1806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1473120" y="12016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推荐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9" descr=""/>
          <p:cNvPicPr/>
          <p:nvPr/>
        </p:nvPicPr>
        <p:blipFill>
          <a:blip r:embed="rId6"/>
          <a:stretch/>
        </p:blipFill>
        <p:spPr>
          <a:xfrm>
            <a:off x="360360" y="106668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223" name="内容占位符 2"/>
          <p:cNvSpPr/>
          <p:nvPr/>
        </p:nvSpPr>
        <p:spPr>
          <a:xfrm>
            <a:off x="685800" y="1676520"/>
            <a:ext cx="798516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大自然的语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竺可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立春过后，大地渐渐从沉睡中苏醒过来。冰雪融化，草木萌发，各种花次第开放。再过两个月，燕子翩然归来。不久，布谷鸟也来了。于是转入炎热的夏季，这是植物孕育果实的时期。到了秋天，果实成熟，植物的叶子渐渐变黄，在秋风中簌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簌地落下来。北雁南飞，活跃在田间草际的昆虫也都销声匿迹。到处呈现一片衰草连天的景象，准备迎接风雪载途的寒冬。在地球上温带和亚热带区域里，年年如是，周而复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几千年来，劳动人民注意了草木荣枯、候鸟去来等自然现象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30" name="内容占位符 2"/>
          <p:cNvSpPr/>
          <p:nvPr/>
        </p:nvSpPr>
        <p:spPr>
          <a:xfrm>
            <a:off x="669960" y="1066680"/>
            <a:ext cx="803448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气候的关系，据以安排农事。杏花开了，就好像大自然在传语要赶快耕地；桃花开了，又好像在暗示要赶快种谷子。布谷鸟开始唱歌，劳动人民懂得它在唱什么：“阿公阿婆，割麦插禾。”这样看来，花香鸟语，草长莺飞，都是大自然的语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这些自然现象，我国古代劳动人民称它为物候。物候知识在我国起源很早。古代流传下来的许多农谚就包含了丰富的物候知识。到了近代，利用物候知识来研究农业生产，已经发展为一门科学，就是物候学。物候学记录植物的生长荣枯，动物的养育往来，如桃花开、燕子来等自然现象，从而了解随着时节推移的气候变化和这种变化对动植物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物候观测使用的是“活的仪器”，是活生生的生物。它比气象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3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38" name="内容占位符 2"/>
          <p:cNvSpPr/>
          <p:nvPr/>
        </p:nvSpPr>
        <p:spPr>
          <a:xfrm>
            <a:off x="76212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器复杂得多，灵敏得多。物候观测的数据反映气温、湿度等气候条件的综合，也反映气候条件对于生物的影响。应用在农事活动里，比较简便，容易掌握。物候对于农业的重要性就在这里。下面是一个例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北京的物候记录，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962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年的山桃、杏花、苹果、榆叶梅、西府海棠、丁香、刺槐的花期比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961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年迟十天左右，比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960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年迟五六天。根据这些物候观测资料，可以判断北京地区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962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年农业季节来得较晚。而那年春初种的花生等作物仍然是按照往年日期播种的，结果受到低温的损害。如果能注意到物候延迟，选择适宜的播种日期，这种损失就可能避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物候现象的来临决定于哪些因素呢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首先是纬（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wěi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）度。越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 23"/>
          <p:cNvGrpSpPr/>
          <p:nvPr/>
        </p:nvGrpSpPr>
        <p:grpSpPr>
          <a:xfrm>
            <a:off x="-290520" y="4641840"/>
            <a:ext cx="1660680" cy="2216160"/>
            <a:chOff x="-290520" y="4641840"/>
            <a:chExt cx="1660680" cy="2216160"/>
          </a:xfrm>
        </p:grpSpPr>
        <p:pic>
          <p:nvPicPr>
            <p:cNvPr id="24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76760" y="46418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290520" y="525492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46" name="内容占位符 2"/>
          <p:cNvSpPr/>
          <p:nvPr/>
        </p:nvSpPr>
        <p:spPr>
          <a:xfrm>
            <a:off x="793800" y="914400"/>
            <a:ext cx="791064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去桃花开得越迟，候鸟也来得越晚。值得指出的是物候现象南北差的日数因季节的差别而不同。我国大陆性气候显著，冬冷夏热。冬季南北温度悬殊，夏季却相差不大。在春天，早春跟晚春也不相同。如在早春三四月间，南京桃花要比北京早开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天，但是到晚春五月初，南京刺槐开花只比北京早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天。所以在华北常感觉到春季短促，冬天结束，夏天就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000000"/>
                </a:solidFill>
                <a:latin typeface="宋体"/>
              </a:rPr>
              <a:t>经度的差异是影响物候的第二个因素。凡是近海的地方，比同纬度的内陆，冬天温和，春天反而寒冷。所以沿海地区的春天的来临比内陆要迟若干天。如大连纬度在北京以南约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1°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，但是在大连，连翘（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qiáo</a:t>
            </a:r>
            <a:r>
              <a:rPr b="1" sz="2000" spc="-1" strike="noStrike">
                <a:solidFill>
                  <a:srgbClr val="000000"/>
                </a:solidFill>
                <a:latin typeface="宋体"/>
              </a:rPr>
              <a:t>）和榆叶梅的盛开都比北京要迟一个星期。又如济南苹果开花在四月中或谷雨节，烟台要到立夏。两地纬度相差无几，因为烟台靠海，春天便来得迟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内容占位符 2"/>
          <p:cNvSpPr/>
          <p:nvPr/>
        </p:nvSpPr>
        <p:spPr>
          <a:xfrm>
            <a:off x="4964040" y="2365200"/>
            <a:ext cx="30132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9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5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图片 26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54" name="圆角矩形 12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国学诵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57" name="内容占位符 2"/>
          <p:cNvSpPr/>
          <p:nvPr/>
        </p:nvSpPr>
        <p:spPr>
          <a:xfrm>
            <a:off x="982800" y="2259000"/>
            <a:ext cx="747540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竹外桃花三两枝，春江水暖鸭先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蒌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lóu hāo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满地芦芽短，正是河豚欲上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五月天山雪，无花只有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笛中闻折柳，春色未曾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李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塞下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学习目标.png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914400" y="1612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会本课的生字新词，理解由生字组成的词语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重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正确、流利、有感情地朗读课文。了解大自然的文字，探索大自然的奥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课文的学习，激发热爱自然、研究自然、利用自然的热情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难点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0" descr="热气球.png"/>
          <p:cNvPicPr/>
          <p:nvPr/>
        </p:nvPicPr>
        <p:blipFill>
          <a:blip r:embed="rId3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62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矩形 2"/>
          <p:cNvSpPr/>
          <p:nvPr/>
        </p:nvSpPr>
        <p:spPr>
          <a:xfrm>
            <a:off x="915840" y="175248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903240" y="229536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903240" y="3352680"/>
            <a:ext cx="36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6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 17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图片 25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4" name="圆角矩形 12"/>
          <p:cNvSpPr/>
          <p:nvPr/>
        </p:nvSpPr>
        <p:spPr>
          <a:xfrm>
            <a:off x="1195560" y="1486080"/>
            <a:ext cx="30542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4"/>
          <p:cNvSpPr/>
          <p:nvPr/>
        </p:nvSpPr>
        <p:spPr>
          <a:xfrm>
            <a:off x="1473120" y="14860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走进中国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1066680" y="2057400"/>
            <a:ext cx="7467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二十八星宿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(xiù)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国古代天文学家把天空中可见的星分成二十八组，叫做二十八宿，东西南北四方各七宿，又称为四象、四兽、四维、四方神。东方称苍龙，南方称朱雀，西方称白虎，北方称玄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天气谚语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八月十五云遮月，正月十五雪打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雨中闻蝉叫，预告晴天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矩形 1"/>
          <p:cNvSpPr/>
          <p:nvPr/>
        </p:nvSpPr>
        <p:spPr>
          <a:xfrm>
            <a:off x="762120" y="19051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图片 24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990720" y="1143000"/>
            <a:ext cx="74851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9"/>
          <p:cNvGrpSpPr/>
          <p:nvPr/>
        </p:nvGrpSpPr>
        <p:grpSpPr>
          <a:xfrm>
            <a:off x="762120" y="1192320"/>
            <a:ext cx="7772400" cy="596520"/>
            <a:chOff x="762120" y="1192320"/>
            <a:chExt cx="7772400" cy="596520"/>
          </a:xfrm>
        </p:grpSpPr>
        <p:sp>
          <p:nvSpPr>
            <p:cNvPr id="278" name="矩形 17"/>
            <p:cNvSpPr/>
            <p:nvPr/>
          </p:nvSpPr>
          <p:spPr>
            <a:xfrm>
              <a:off x="762120" y="1295280"/>
              <a:ext cx="44640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2"/>
            <p:cNvSpPr/>
            <p:nvPr/>
          </p:nvSpPr>
          <p:spPr>
            <a:xfrm>
              <a:off x="844560" y="1192320"/>
              <a:ext cx="76899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03160" indent="-8031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略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3"/>
          <p:cNvSpPr/>
          <p:nvPr/>
        </p:nvSpPr>
        <p:spPr>
          <a:xfrm>
            <a:off x="685800" y="1817640"/>
            <a:ext cx="749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分别从头顶的天空和脚下的土地两个方面，依次介绍了天上的星座、云和脚下的石灰石、花岗石等四种大自然的文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1295280" y="3292560"/>
            <a:ext cx="7010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要认识大自然的文字有三个途径：一是注意观察，应当从小就到森林里或田野里走走，做个细致观察的有心人；二是查阅资料，直接经验往往较少，要更多地了解大自然的文字，可从书里寻找答案；三是请教别人，勤于发问，善于请教，这也是获得知识，了解自然的重要途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3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8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1"/>
          <p:cNvSpPr/>
          <p:nvPr/>
        </p:nvSpPr>
        <p:spPr>
          <a:xfrm>
            <a:off x="762120" y="1442880"/>
            <a:ext cx="44604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6"/>
          <p:cNvSpPr/>
          <p:nvPr/>
        </p:nvSpPr>
        <p:spPr>
          <a:xfrm>
            <a:off x="830160" y="1322280"/>
            <a:ext cx="79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空中的鸟是大自然的文字：燕子从南方回来，告诉人们已经进入春天；大雁南飞，告诉人们秋天来了。地上的蚂蚁是大自然的文字：蚂蚁忙着搬家，出门要带雨伞。天空中的云霞是大自然的文字：朝霞不出门，晚霞行千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"/>
          <p:cNvSpPr/>
          <p:nvPr/>
        </p:nvSpPr>
        <p:spPr>
          <a:xfrm>
            <a:off x="712800" y="403848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日常生活的观察、上科学课、请教家长和老师，我懂得了许多大自然的文字。另外，通过上网搜索，我又了解到许多大自然的知识，知道了更多大自然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9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98" name="矩形 3"/>
          <p:cNvSpPr/>
          <p:nvPr/>
        </p:nvSpPr>
        <p:spPr>
          <a:xfrm>
            <a:off x="617400" y="1457280"/>
            <a:ext cx="829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小小书法家。（抄写词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熊    耸立    预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我会辨字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耸（     ）    熊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茸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兆（     ）    释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（     ）    泽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"/>
          <p:cNvSpPr/>
          <p:nvPr/>
        </p:nvSpPr>
        <p:spPr>
          <a:xfrm>
            <a:off x="1371600" y="3365640"/>
            <a:ext cx="76320" cy="6728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672840"/>
              <a:gd name="textAreaBottom" fmla="*/ 651240 h 67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0"/>
                  <a:pt x="10800" y="2219"/>
                </a:cubicBezTo>
                <a:lnTo>
                  <a:pt x="10800" y="8581"/>
                </a:lnTo>
                <a:cubicBezTo>
                  <a:pt x="10800" y="9691"/>
                  <a:pt x="5400" y="10800"/>
                  <a:pt x="0" y="10800"/>
                </a:cubicBezTo>
                <a:cubicBezTo>
                  <a:pt x="5400" y="10800"/>
                  <a:pt x="10800" y="11910"/>
                  <a:pt x="10800" y="13019"/>
                </a:cubicBezTo>
                <a:lnTo>
                  <a:pt x="10800" y="19381"/>
                </a:lnTo>
                <a:cubicBezTo>
                  <a:pt x="10800" y="20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2057400" y="325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耸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905120" y="3772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茸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7"/>
          <p:cNvSpPr/>
          <p:nvPr/>
        </p:nvSpPr>
        <p:spPr>
          <a:xfrm>
            <a:off x="3657600" y="3365640"/>
            <a:ext cx="76320" cy="6728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672840"/>
              <a:gd name="textAreaBottom" fmla="*/ 651240 h 67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0"/>
                  <a:pt x="10800" y="2219"/>
                </a:cubicBezTo>
                <a:lnTo>
                  <a:pt x="10800" y="8581"/>
                </a:lnTo>
                <a:cubicBezTo>
                  <a:pt x="10800" y="9691"/>
                  <a:pt x="5400" y="10800"/>
                  <a:pt x="0" y="10800"/>
                </a:cubicBezTo>
                <a:cubicBezTo>
                  <a:pt x="5400" y="10800"/>
                  <a:pt x="10800" y="11910"/>
                  <a:pt x="10800" y="13019"/>
                </a:cubicBezTo>
                <a:lnTo>
                  <a:pt x="10800" y="19381"/>
                </a:lnTo>
                <a:cubicBezTo>
                  <a:pt x="10800" y="20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4384800" y="323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4400640" y="3770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0"/>
          <p:cNvSpPr/>
          <p:nvPr/>
        </p:nvSpPr>
        <p:spPr>
          <a:xfrm>
            <a:off x="1371600" y="4521240"/>
            <a:ext cx="76320" cy="6602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660240"/>
              <a:gd name="textAreaBottom" fmla="*/ 63864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1"/>
                  <a:pt x="10800" y="2262"/>
                </a:cubicBezTo>
                <a:lnTo>
                  <a:pt x="10800" y="8538"/>
                </a:lnTo>
                <a:cubicBezTo>
                  <a:pt x="10800" y="9669"/>
                  <a:pt x="5400" y="10800"/>
                  <a:pt x="0" y="10800"/>
                </a:cubicBezTo>
                <a:cubicBezTo>
                  <a:pt x="5400" y="10800"/>
                  <a:pt x="10800" y="11931"/>
                  <a:pt x="10800" y="13062"/>
                </a:cubicBezTo>
                <a:lnTo>
                  <a:pt x="10800" y="19338"/>
                </a:lnTo>
                <a:cubicBezTo>
                  <a:pt x="10800" y="2046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1"/>
          <p:cNvSpPr/>
          <p:nvPr/>
        </p:nvSpPr>
        <p:spPr>
          <a:xfrm>
            <a:off x="3657600" y="4495680"/>
            <a:ext cx="76320" cy="6526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652680"/>
              <a:gd name="textAreaBottom" fmla="*/ 631080 h 6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4"/>
                  <a:pt x="10800" y="2288"/>
                </a:cubicBezTo>
                <a:lnTo>
                  <a:pt x="10800" y="8512"/>
                </a:lnTo>
                <a:cubicBezTo>
                  <a:pt x="10800" y="9656"/>
                  <a:pt x="5400" y="10800"/>
                  <a:pt x="0" y="10800"/>
                </a:cubicBezTo>
                <a:cubicBezTo>
                  <a:pt x="5400" y="10800"/>
                  <a:pt x="10800" y="11944"/>
                  <a:pt x="10800" y="13088"/>
                </a:cubicBezTo>
                <a:lnTo>
                  <a:pt x="10800" y="19312"/>
                </a:lnTo>
                <a:cubicBezTo>
                  <a:pt x="10800" y="20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2"/>
          <p:cNvSpPr/>
          <p:nvPr/>
        </p:nvSpPr>
        <p:spPr>
          <a:xfrm>
            <a:off x="2057400" y="43149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预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3"/>
          <p:cNvSpPr/>
          <p:nvPr/>
        </p:nvSpPr>
        <p:spPr>
          <a:xfrm>
            <a:off x="20574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4410000" y="4332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4383000" y="4867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1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17" name="矩形 11"/>
          <p:cNvSpPr/>
          <p:nvPr/>
        </p:nvSpPr>
        <p:spPr>
          <a:xfrm>
            <a:off x="628560" y="1093680"/>
            <a:ext cx="7905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择合适的关联词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他们没有罗盘，（     ）照样不会迷失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学会认识大自然的文字，从小（     ）应当到树林里或者田野上走走，注意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谁有这么大的力气把他搬到森林里来呢？（      ）他又是怎样穿过茂密树林的呢？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2"/>
          <p:cNvSpPr/>
          <p:nvPr/>
        </p:nvSpPr>
        <p:spPr>
          <a:xfrm>
            <a:off x="2033280" y="281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7"/>
          <p:cNvSpPr/>
          <p:nvPr/>
        </p:nvSpPr>
        <p:spPr>
          <a:xfrm>
            <a:off x="5895720" y="281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"/>
          <p:cNvSpPr/>
          <p:nvPr/>
        </p:nvSpPr>
        <p:spPr>
          <a:xfrm>
            <a:off x="2009520" y="39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"/>
          <p:cNvSpPr/>
          <p:nvPr/>
        </p:nvSpPr>
        <p:spPr>
          <a:xfrm>
            <a:off x="7380000" y="395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"/>
          <p:cNvSpPr/>
          <p:nvPr/>
        </p:nvSpPr>
        <p:spPr>
          <a:xfrm>
            <a:off x="7527600" y="5024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2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2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29" name="矩形 1"/>
          <p:cNvSpPr/>
          <p:nvPr/>
        </p:nvSpPr>
        <p:spPr>
          <a:xfrm>
            <a:off x="838080" y="129528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指出下列句子使用的修辞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炎热的夏季，远远耸立着一座白色的云山，从这座云山向左右伸出两个尖头，山变得就像铁匠的铁砧了。（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时会忽然看到树林当中立着一块很大的花岗石，上面披着青苔，就像披着毛皮一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些冰块从寒冷的北方“爬”过来，沿路把大大小小的石块带着一起走。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"/>
          <p:cNvSpPr/>
          <p:nvPr/>
        </p:nvSpPr>
        <p:spPr>
          <a:xfrm>
            <a:off x="4116240" y="3046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"/>
          <p:cNvSpPr/>
          <p:nvPr/>
        </p:nvSpPr>
        <p:spPr>
          <a:xfrm>
            <a:off x="7154640" y="469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2"/>
          <p:cNvSpPr/>
          <p:nvPr/>
        </p:nvSpPr>
        <p:spPr>
          <a:xfrm>
            <a:off x="5962320" y="578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6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" name="图片 28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 15"/>
          <p:cNvSpPr/>
          <p:nvPr/>
        </p:nvSpPr>
        <p:spPr>
          <a:xfrm>
            <a:off x="1195560" y="1486080"/>
            <a:ext cx="20890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6"/>
          <p:cNvSpPr/>
          <p:nvPr/>
        </p:nvSpPr>
        <p:spPr>
          <a:xfrm>
            <a:off x="1473120" y="1486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分类学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"/>
          <p:cNvSpPr/>
          <p:nvPr/>
        </p:nvSpPr>
        <p:spPr>
          <a:xfrm>
            <a:off x="1073160" y="2057400"/>
            <a:ext cx="73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体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225600" y="21812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3609720" y="218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2771640" y="273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3"/>
          <p:cNvSpPr/>
          <p:nvPr/>
        </p:nvSpPr>
        <p:spPr>
          <a:xfrm>
            <a:off x="3657600" y="40384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4" descr="花盆.png"/>
          <p:cNvPicPr/>
          <p:nvPr/>
        </p:nvPicPr>
        <p:blipFill>
          <a:blip r:embed="rId7"/>
          <a:stretch/>
        </p:blipFill>
        <p:spPr>
          <a:xfrm>
            <a:off x="1219320" y="335268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0"/>
          <p:cNvSpPr/>
          <p:nvPr/>
        </p:nvSpPr>
        <p:spPr>
          <a:xfrm>
            <a:off x="1523880" y="3352680"/>
            <a:ext cx="38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Arial"/>
                <a:ea typeface="黑体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3716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1"/>
          <p:cNvSpPr/>
          <p:nvPr/>
        </p:nvSpPr>
        <p:spPr>
          <a:xfrm>
            <a:off x="19051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2"/>
          <p:cNvSpPr/>
          <p:nvPr/>
        </p:nvSpPr>
        <p:spPr>
          <a:xfrm>
            <a:off x="1905120" y="4800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à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49528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54864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5497560" y="4856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647712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假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6345360" y="48560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寒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3019320" y="4049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贝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3048120" y="47912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7"/>
          <p:cNvSpPr/>
          <p:nvPr/>
        </p:nvSpPr>
        <p:spPr>
          <a:xfrm>
            <a:off x="5486400" y="4191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1"/>
                  <a:pt x="10800" y="1782"/>
                </a:cubicBezTo>
                <a:lnTo>
                  <a:pt x="10800" y="9018"/>
                </a:lnTo>
                <a:cubicBezTo>
                  <a:pt x="10800" y="9909"/>
                  <a:pt x="5400" y="10800"/>
                  <a:pt x="0" y="10800"/>
                </a:cubicBezTo>
                <a:cubicBezTo>
                  <a:pt x="5400" y="10800"/>
                  <a:pt x="10800" y="11691"/>
                  <a:pt x="10800" y="12582"/>
                </a:cubicBezTo>
                <a:lnTo>
                  <a:pt x="10800" y="19818"/>
                </a:lnTo>
                <a:cubicBezTo>
                  <a:pt x="10800" y="207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7"/>
          <p:cNvSpPr/>
          <p:nvPr/>
        </p:nvSpPr>
        <p:spPr>
          <a:xfrm>
            <a:off x="1828800" y="4191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1"/>
                  <a:pt x="10800" y="1782"/>
                </a:cubicBezTo>
                <a:lnTo>
                  <a:pt x="10800" y="9018"/>
                </a:lnTo>
                <a:cubicBezTo>
                  <a:pt x="10800" y="9909"/>
                  <a:pt x="5400" y="10800"/>
                  <a:pt x="0" y="10800"/>
                </a:cubicBezTo>
                <a:cubicBezTo>
                  <a:pt x="5400" y="10800"/>
                  <a:pt x="10800" y="11691"/>
                  <a:pt x="10800" y="12582"/>
                </a:cubicBezTo>
                <a:lnTo>
                  <a:pt x="10800" y="19818"/>
                </a:lnTo>
                <a:cubicBezTo>
                  <a:pt x="10800" y="207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9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图片 23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24"/>
          <p:cNvSpPr/>
          <p:nvPr/>
        </p:nvSpPr>
        <p:spPr>
          <a:xfrm>
            <a:off x="1219320" y="2193840"/>
            <a:ext cx="72565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耸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茂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2043000" y="2203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高地直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1967040" y="3422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草木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茂盛而繁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2043000" y="28130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预先显露出来的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1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4" descr="花盆.png"/>
          <p:cNvPicPr/>
          <p:nvPr/>
        </p:nvPicPr>
        <p:blipFill>
          <a:blip r:embed="rId5"/>
          <a:stretch/>
        </p:blipFill>
        <p:spPr>
          <a:xfrm>
            <a:off x="896760" y="1839960"/>
            <a:ext cx="322560" cy="369720"/>
          </a:xfrm>
          <a:prstGeom prst="rect">
            <a:avLst/>
          </a:prstGeom>
          <a:ln w="0">
            <a:noFill/>
          </a:ln>
        </p:spPr>
      </p:pic>
      <p:sp>
        <p:nvSpPr>
          <p:cNvPr id="115" name="内容占位符 2"/>
          <p:cNvSpPr/>
          <p:nvPr/>
        </p:nvSpPr>
        <p:spPr>
          <a:xfrm>
            <a:off x="1015920" y="1133640"/>
            <a:ext cx="713448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请同学们带着以下问题读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dobe 黑体 Std R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怎样才能学会认识大自然的文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dobe 黑体 Std R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分别写了哪几种大自然的文字？从中获得了哪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自然的文字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自然的文字是指什么？认识大自然的文字有什么用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4" descr="花盆.png"/>
          <p:cNvPicPr/>
          <p:nvPr/>
        </p:nvPicPr>
        <p:blipFill>
          <a:blip r:embed="rId7"/>
          <a:stretch/>
        </p:blipFill>
        <p:spPr>
          <a:xfrm>
            <a:off x="896760" y="2906640"/>
            <a:ext cx="3225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5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2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24" name="圆角矩形 19"/>
          <p:cNvSpPr/>
          <p:nvPr/>
        </p:nvSpPr>
        <p:spPr>
          <a:xfrm>
            <a:off x="3592440" y="130320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0"/>
          <p:cNvSpPr/>
          <p:nvPr/>
        </p:nvSpPr>
        <p:spPr>
          <a:xfrm>
            <a:off x="3781440" y="12952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整体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9" descr=""/>
          <p:cNvPicPr/>
          <p:nvPr/>
        </p:nvPicPr>
        <p:blipFill>
          <a:blip r:embed="rId6"/>
          <a:stretch/>
        </p:blipFill>
        <p:spPr>
          <a:xfrm>
            <a:off x="2666880" y="1143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2"/>
          <p:cNvSpPr/>
          <p:nvPr/>
        </p:nvSpPr>
        <p:spPr>
          <a:xfrm>
            <a:off x="914400" y="1919160"/>
            <a:ext cx="71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部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大自然也有自己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部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从“天上”和“脚下”两方面介绍大自然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部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然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怎样才能认识大自然的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 2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3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3592440" y="130320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0"/>
          <p:cNvSpPr/>
          <p:nvPr/>
        </p:nvSpPr>
        <p:spPr>
          <a:xfrm>
            <a:off x="3781440" y="12952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整体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"/>
          <p:cNvPicPr/>
          <p:nvPr/>
        </p:nvPicPr>
        <p:blipFill>
          <a:blip r:embed="rId6"/>
          <a:stretch/>
        </p:blipFill>
        <p:spPr>
          <a:xfrm>
            <a:off x="2666880" y="1143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2"/>
          <p:cNvSpPr/>
          <p:nvPr/>
        </p:nvSpPr>
        <p:spPr>
          <a:xfrm>
            <a:off x="1008000" y="214632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什么是“大自然的文字”，文章用这个标题有什么好处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将大自然比作书本，而大自然中的各种现象及其蕴涵的一些规律和道理就是这本书中的“文字”。文章用这个标题，是比喻的说法，显得形象生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图片 24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44" name="圆角矩形 19"/>
          <p:cNvSpPr/>
          <p:nvPr/>
        </p:nvSpPr>
        <p:spPr>
          <a:xfrm>
            <a:off x="3502080" y="122724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3733920" y="12193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理解品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9" descr=""/>
          <p:cNvPicPr/>
          <p:nvPr/>
        </p:nvPicPr>
        <p:blipFill>
          <a:blip r:embed="rId6"/>
          <a:stretch/>
        </p:blipFill>
        <p:spPr>
          <a:xfrm>
            <a:off x="2666880" y="106668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770040" y="1776240"/>
            <a:ext cx="77644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使他们没有罗盘，也照样不会迷失方向。他们朝天望望，在许多由星星组成的星座当中，会找到小熊星座，在小熊星座当中会找到北极星，有北极星的那边就是北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具体介绍了如何通过星星来辨别方向。通过关联词语“即使……也……”和“照样”一词，写出了星星在辨别方向上的巨大作用，并用简洁的语句将古代水手辨别方向的方法加以描述，让人一目了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图片 17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2"/>
          <p:cNvSpPr/>
          <p:nvPr/>
        </p:nvSpPr>
        <p:spPr>
          <a:xfrm>
            <a:off x="1000080" y="1681200"/>
            <a:ext cx="73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大家都知道贝类是海洋里的居民，可见在远古时代，现在是城市的这块地方曾经是一片汪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这块“石灰石”可以推断出现在的这个繁华城市，在古代曾经是一片汪洋。从“一片汪洋”到繁华的“城市”，地质变化如此巨大。而透过一块石头能看出这种变化，大自然的文字真是一位了不起的老师。再次凸显了读懂大自然文字的重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04:44:00Z</dcterms:created>
  <dc:creator/>
  <dc:description/>
  <cp:keywords/>
  <dc:language>en-US</dc:language>
  <cp:lastModifiedBy>User</cp:lastModifiedBy>
  <dcterms:modified xsi:type="dcterms:W3CDTF">2017-11-05T10:36:28Z</dcterms:modified>
  <cp:revision>4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